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AF363-D805-4B51-A23B-92D538D37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6373-C911-46CB-BF1B-C9CBC39A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9F80C-02C3-44EA-A0A5-35EDE2DBE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3A5A-47E1-4FFF-90EC-21A464F95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39E0-BED5-45F9-8368-5324B57CF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32C4-0A43-42F8-B13A-A7227D10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F5E2-B10B-45E0-87CD-F1745EF65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1CD0-2900-4210-AF79-5E44A421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CA86-3730-44AF-B8E9-47E07809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BDA9-9389-488E-927F-33136E2DF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DED3-57DA-41F5-AC82-9F4C8F09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D580-A8D1-4564-9AB7-F1481DCD5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3F5E-20ED-4A47-878B-F861DD9D1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191120" y="4800600"/>
            <a:ext cx="377172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esiunea iunie-iulie</a:t>
            </a:r>
            <a:endParaRPr b="0" lang="en-US" sz="2800" spc="1" strike="noStrike">
              <a:ln w="9360">
                <a:solidFill>
                  <a:srgbClr val="000000"/>
                </a:solidFill>
                <a:miter/>
              </a:ln>
              <a:solidFill>
                <a:srgbClr val="000000"/>
              </a:solidFill>
              <a:latin typeface="Arial Black"/>
              <a:ea typeface="Arial Black"/>
            </a:endParaRPr>
          </a:p>
        </p:txBody>
      </p:sp>
    </p:spTree>
  </p:cSld>
  <p:transition advTm="5000">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advTm="5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0a3</cp:lastModifiedBy>
  <dcterms:modified xsi:type="dcterms:W3CDTF">2012-06-18T10:58: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